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009-7BCB-404E-AD62-0FA73A5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628-C86D-4E6D-A439-00CDE033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09D-8F20-45C7-88C6-ABD19D10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CF5-17D4-4B2F-A71B-963F7580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5D37-3107-48FB-8778-319606CC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5DB2-1FEA-435B-BC5E-1333A3D3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27E5-AC0F-4D52-B73A-E0705EA4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DB19-BDAA-4D45-8249-3B7C552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5988-3221-4CE3-85C8-C40228D1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365-6BBF-4850-86EE-DFD59260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54A6-410E-469E-86F3-D987B3DE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219-8DA7-45F8-8C1D-2DBAD4FE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9F20-C574-41F9-AC70-9BC6D78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31F6-8420-4CCC-82E8-ABD9A81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009-6578-4D27-AEC4-ED0D4EE8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F92B-80F7-411C-AFD3-33BB16DA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1436-0C3A-4CB5-8A04-0DAB91FB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4F5-030F-4120-9548-14F240FA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625-CEC6-439F-B109-C8D9F18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EDC-83A6-4FA0-ACDB-3E6BE43E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7EA-21AB-4C1F-A1EA-9F2028D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8EE-2AFA-4E70-94E4-A7415B5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862-B201-4DCD-9E5E-091F63D4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1B1-549C-4183-B31E-D2EBA7E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660-399C-456A-8BED-D30BDD306A68}" type="slidenum">
              <a:rPr b="1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3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7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4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D1D-3956-4119-8239-2094C0300A10}" type="slidenum">
              <a:rPr b="1" lang="en-US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lan Your Ultimate European Vac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Annie Zheng 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Mirey Sen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Jie Qu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Matthew Nicklos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John Bennett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 - Utility Func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ptimal solution based on utility point system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ints are allocated based on user’s ranking of the cit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. 100 points/day for highest priority city, 90 points for next highest priority, 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Utility increases with accommodation typ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639880" y="5570640"/>
            <a:ext cx="19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Accommodation Type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9720" y="5778360"/>
            <a:ext cx="1670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1920" y="55706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Utility Points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54760" y="5778360"/>
            <a:ext cx="14144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5818320"/>
            <a:ext cx="6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1280" y="581832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x base utilit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1400" y="60660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id-range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1280" y="606600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x base utilit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55800" y="631188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Top-end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1280" y="631188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3x base utilit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 - Penalty Syste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ailure to visit most preferred city -500 poi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essive travel time penalti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&lt;0.5 hr.                  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0.5&lt; t &lt;5.0 hr.       1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5.0&lt; t &lt;10 hr.        3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10&lt; t &lt;15 hr.         5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15&lt; t &lt;24 hr.         8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&gt;24 hr.                10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essive stays at destinations based on city prioriti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(# days over min. days) X (penalty points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 - Penalty Tab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3059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utpu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423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uggestions for Version 2.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ed to run the solver multiple times to get consistent resul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 some cases, there is clearly room for improvement but Solver stops optimiz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dd more functionality to enable user to further customize vac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fine method of assigning utility poi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998880" cy="5034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181480" y="1371600"/>
            <a:ext cx="3200400" cy="1066680"/>
          </a:xfrm>
          <a:prstGeom prst="wedgeRoundRectCallout">
            <a:avLst>
              <a:gd name="adj1" fmla="val -115180"/>
              <a:gd name="adj2" fmla="val 164287"/>
              <a:gd name="adj3" fmla="val 16667"/>
            </a:avLst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16002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436840" y="1219320"/>
          <a:ext cx="37069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219320"/>
                    <a:ext cx="37069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ject Overview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nagerial Problem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fin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mul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del Overview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uggestions for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rsion 2.0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71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ject Overview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25146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 trip planner for your European vacation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5 possible destinatio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gnificant user customizatio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ioritization of destination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Budget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ength of stay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lass of service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ize travel tim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662940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anagerial Problem Defini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maximize vacation enjoyment of our customers, given their individual preferences and constrai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consider the following criteri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rioritization of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stay at priority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raveler’s budg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ength of trip: 5, 15, 21, 30, 60 day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lass of service: budget, midrange, top-en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tarting 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cision Variables:  Which cities to visit and for how lo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jective: To maximize “utility” of traveler based on individual preferen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nstraint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stay in each desired 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ser specified priority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fault minimum stay of 1 day for non-priority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nnot visit a city more than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rip cost must be less than specified budg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n-negativ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Objective Data Used in Model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320" y="1824120"/>
            <a:ext cx="89913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gnificant user customization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tility point system based on user preferences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tility reduced by penalty point syste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utput based on utility maximiz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r Input Scree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475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2T21:31:28Z</dcterms:created>
  <dc:creator>Joanne Lupatkin</dc:creator>
  <dc:description/>
  <dc:language>en-US</dc:language>
  <cp:lastModifiedBy>Annie Zheng</cp:lastModifiedBy>
  <cp:lastPrinted>2000-04-25T19:59:41Z</cp:lastPrinted>
  <dcterms:modified xsi:type="dcterms:W3CDTF">2002-05-01T22:58:57Z</dcterms:modified>
  <cp:revision>73</cp:revision>
  <dc:subject/>
  <dc:title>Title of Presentation</dc:title>
</cp:coreProperties>
</file>